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9F2EF-5DDB-426D-96EB-36DFC4E447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29AED-04A2-446E-9239-A739614A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512EC-9CBC-4EAE-B896-752DEBEF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B9344-63D8-4ACF-809B-91CFBEA4D8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00318-61A0-4831-99B9-21F60145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1F567-7EA2-440E-A6F9-D13C8F12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1B6FA-14C2-4649-AFD9-22161639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75E15-FF5E-4D77-9C2D-AC43CA73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1928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60DD5-36C9-48FA-BA53-2CBCF13EF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C9C9B-C771-4A46-8983-5A226A3D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55137-E33A-40F7-A4EA-C21A8A44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47961-8CAC-4D6A-9CC6-7740FA6D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235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0175-3DA2-433F-864C-10961CB26F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-1440" y="52560"/>
            <a:ext cx="720720" cy="431640"/>
            <a:chOff x="-1440" y="52560"/>
            <a:chExt cx="720720" cy="431640"/>
          </a:xfrm>
        </p:grpSpPr>
        <p:sp>
          <p:nvSpPr>
            <p:cNvPr id="45" name=""/>
            <p:cNvSpPr/>
            <p:nvPr/>
          </p:nvSpPr>
          <p:spPr>
            <a:xfrm>
              <a:off x="4320" y="52560"/>
              <a:ext cx="714960" cy="251640"/>
            </a:xfrm>
            <a:custGeom>
              <a:avLst/>
              <a:gdLst/>
              <a:ahLst/>
              <a:rect l="l" t="t" r="r" b="b"/>
              <a:pathLst>
                <a:path w="121" h="49">
                  <a:moveTo>
                    <a:pt x="45" y="18"/>
                  </a:moveTo>
                  <a:lnTo>
                    <a:pt x="55" y="23"/>
                  </a:lnTo>
                  <a:cubicBezTo>
                    <a:pt x="60" y="24"/>
                    <a:pt x="65" y="27"/>
                    <a:pt x="69" y="29"/>
                  </a:cubicBezTo>
                  <a:cubicBezTo>
                    <a:pt x="79" y="43"/>
                    <a:pt x="83" y="49"/>
                    <a:pt x="99" y="41"/>
                  </a:cubicBezTo>
                  <a:cubicBezTo>
                    <a:pt x="106" y="36"/>
                    <a:pt x="113" y="31"/>
                    <a:pt x="121" y="26"/>
                  </a:cubicBezTo>
                  <a:cubicBezTo>
                    <a:pt x="121" y="25"/>
                    <a:pt x="121" y="23"/>
                    <a:pt x="121" y="22"/>
                  </a:cubicBezTo>
                  <a:cubicBezTo>
                    <a:pt x="114" y="26"/>
                    <a:pt x="107" y="30"/>
                    <a:pt x="100" y="34"/>
                  </a:cubicBezTo>
                  <a:cubicBezTo>
                    <a:pt x="98" y="35"/>
                    <a:pt x="96" y="35"/>
                    <a:pt x="94" y="34"/>
                  </a:cubicBezTo>
                  <a:cubicBezTo>
                    <a:pt x="87" y="24"/>
                    <a:pt x="81" y="14"/>
                    <a:pt x="74" y="5"/>
                  </a:cubicBezTo>
                  <a:cubicBezTo>
                    <a:pt x="67" y="0"/>
                    <a:pt x="65" y="0"/>
                    <a:pt x="57" y="3"/>
                  </a:cubicBezTo>
                  <a:cubicBezTo>
                    <a:pt x="38" y="15"/>
                    <a:pt x="19" y="27"/>
                    <a:pt x="0" y="39"/>
                  </a:cubicBezTo>
                  <a:cubicBezTo>
                    <a:pt x="0" y="41"/>
                    <a:pt x="0" y="42"/>
                    <a:pt x="0" y="44"/>
                  </a:cubicBezTo>
                  <a:cubicBezTo>
                    <a:pt x="20" y="31"/>
                    <a:pt x="20" y="31"/>
                    <a:pt x="52" y="12"/>
                  </a:cubicBezTo>
                  <a:cubicBezTo>
                    <a:pt x="57" y="12"/>
                    <a:pt x="58" y="13"/>
                    <a:pt x="61" y="17"/>
                  </a:cubicBezTo>
                  <a:cubicBezTo>
                    <a:pt x="61" y="17"/>
                    <a:pt x="61" y="18"/>
                    <a:pt x="60" y="18"/>
                  </a:cubicBezTo>
                  <a:cubicBezTo>
                    <a:pt x="55" y="17"/>
                    <a:pt x="51" y="17"/>
                    <a:pt x="45" y="18"/>
                  </a:cubicBezTo>
                  <a:close/>
                </a:path>
              </a:pathLst>
            </a:custGeom>
            <a:solidFill>
              <a:srgbClr val="52aa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1440" y="150120"/>
              <a:ext cx="720720" cy="241200"/>
            </a:xfrm>
            <a:custGeom>
              <a:avLst/>
              <a:gdLst/>
              <a:ahLst/>
              <a:rect l="l" t="t" r="r" b="b"/>
              <a:pathLst>
                <a:path w="122" h="47">
                  <a:moveTo>
                    <a:pt x="56" y="3"/>
                  </a:moveTo>
                  <a:lnTo>
                    <a:pt x="54" y="1"/>
                  </a:lnTo>
                  <a:lnTo>
                    <a:pt x="52" y="1"/>
                  </a:lnTo>
                  <a:lnTo>
                    <a:pt x="49" y="0"/>
                  </a:lnTo>
                  <a:lnTo>
                    <a:pt x="46" y="0"/>
                  </a:lnTo>
                  <a:cubicBezTo>
                    <a:pt x="31" y="10"/>
                    <a:pt x="15" y="20"/>
                    <a:pt x="0" y="30"/>
                  </a:cubicBezTo>
                  <a:cubicBezTo>
                    <a:pt x="0" y="32"/>
                    <a:pt x="0" y="34"/>
                    <a:pt x="0" y="35"/>
                  </a:cubicBezTo>
                  <a:cubicBezTo>
                    <a:pt x="12" y="28"/>
                    <a:pt x="24" y="20"/>
                    <a:pt x="36" y="13"/>
                  </a:cubicBezTo>
                  <a:cubicBezTo>
                    <a:pt x="37" y="12"/>
                    <a:pt x="38" y="12"/>
                    <a:pt x="40" y="13"/>
                  </a:cubicBezTo>
                  <a:cubicBezTo>
                    <a:pt x="52" y="23"/>
                    <a:pt x="54" y="40"/>
                    <a:pt x="70" y="46"/>
                  </a:cubicBezTo>
                  <a:cubicBezTo>
                    <a:pt x="73" y="47"/>
                    <a:pt x="75" y="46"/>
                    <a:pt x="77" y="45"/>
                  </a:cubicBezTo>
                  <a:cubicBezTo>
                    <a:pt x="93" y="37"/>
                    <a:pt x="107" y="26"/>
                    <a:pt x="122" y="16"/>
                  </a:cubicBezTo>
                  <a:cubicBezTo>
                    <a:pt x="122" y="15"/>
                    <a:pt x="122" y="13"/>
                    <a:pt x="122" y="11"/>
                  </a:cubicBezTo>
                  <a:cubicBezTo>
                    <a:pt x="108" y="18"/>
                    <a:pt x="96" y="29"/>
                    <a:pt x="82" y="35"/>
                  </a:cubicBezTo>
                  <a:cubicBezTo>
                    <a:pt x="80" y="36"/>
                    <a:pt x="79" y="36"/>
                    <a:pt x="78" y="35"/>
                  </a:cubicBezTo>
                  <a:cubicBezTo>
                    <a:pt x="72" y="25"/>
                    <a:pt x="65" y="15"/>
                    <a:pt x="59" y="6"/>
                  </a:cubicBezTo>
                  <a:cubicBezTo>
                    <a:pt x="58" y="6"/>
                    <a:pt x="58" y="5"/>
                    <a:pt x="58" y="5"/>
                  </a:cubicBezTo>
                  <a:cubicBezTo>
                    <a:pt x="58" y="5"/>
                    <a:pt x="56" y="3"/>
                    <a:pt x="56" y="3"/>
                  </a:cubicBezTo>
                  <a:close/>
                </a:path>
              </a:pathLst>
            </a:custGeom>
            <a:solidFill>
              <a:srgbClr val="008c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1440" y="242640"/>
              <a:ext cx="720720" cy="241560"/>
            </a:xfrm>
            <a:custGeom>
              <a:avLst/>
              <a:gdLst/>
              <a:ahLst/>
              <a:rect l="l" t="t" r="r" b="b"/>
              <a:pathLst>
                <a:path w="122" h="47">
                  <a:moveTo>
                    <a:pt x="54" y="45"/>
                  </a:moveTo>
                  <a:cubicBezTo>
                    <a:pt x="51" y="43"/>
                    <a:pt x="49" y="42"/>
                    <a:pt x="47" y="40"/>
                  </a:cubicBezTo>
                  <a:cubicBezTo>
                    <a:pt x="37" y="26"/>
                    <a:pt x="26" y="19"/>
                    <a:pt x="9" y="24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11" y="21"/>
                    <a:pt x="14" y="20"/>
                    <a:pt x="16" y="18"/>
                  </a:cubicBezTo>
                  <a:cubicBezTo>
                    <a:pt x="19" y="17"/>
                    <a:pt x="28" y="17"/>
                    <a:pt x="31" y="18"/>
                  </a:cubicBezTo>
                  <a:cubicBezTo>
                    <a:pt x="28" y="14"/>
                    <a:pt x="28" y="13"/>
                    <a:pt x="22" y="13"/>
                  </a:cubicBezTo>
                  <a:cubicBezTo>
                    <a:pt x="15" y="17"/>
                    <a:pt x="8" y="21"/>
                    <a:pt x="0" y="26"/>
                  </a:cubicBezTo>
                  <a:cubicBezTo>
                    <a:pt x="0" y="24"/>
                    <a:pt x="1" y="22"/>
                    <a:pt x="1" y="20"/>
                  </a:cubicBezTo>
                  <a:cubicBezTo>
                    <a:pt x="10" y="14"/>
                    <a:pt x="19" y="8"/>
                    <a:pt x="28" y="3"/>
                  </a:cubicBezTo>
                  <a:cubicBezTo>
                    <a:pt x="36" y="0"/>
                    <a:pt x="37" y="1"/>
                    <a:pt x="45" y="5"/>
                  </a:cubicBezTo>
                  <a:cubicBezTo>
                    <a:pt x="51" y="14"/>
                    <a:pt x="58" y="24"/>
                    <a:pt x="65" y="34"/>
                  </a:cubicBezTo>
                  <a:cubicBezTo>
                    <a:pt x="66" y="35"/>
                    <a:pt x="67" y="35"/>
                    <a:pt x="71" y="34"/>
                  </a:cubicBezTo>
                  <a:cubicBezTo>
                    <a:pt x="121" y="3"/>
                    <a:pt x="121" y="3"/>
                    <a:pt x="122" y="2"/>
                  </a:cubicBezTo>
                  <a:cubicBezTo>
                    <a:pt x="122" y="5"/>
                    <a:pt x="122" y="7"/>
                    <a:pt x="122" y="9"/>
                  </a:cubicBezTo>
                  <a:cubicBezTo>
                    <a:pt x="106" y="18"/>
                    <a:pt x="106" y="18"/>
                    <a:pt x="68" y="42"/>
                  </a:cubicBezTo>
                  <a:cubicBezTo>
                    <a:pt x="63" y="46"/>
                    <a:pt x="60" y="47"/>
                    <a:pt x="54" y="45"/>
                  </a:cubicBezTo>
                  <a:close/>
                </a:path>
              </a:pathLst>
            </a:custGeom>
            <a:solidFill>
              <a:srgbClr val="194b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28720" y="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71640" y="476280"/>
            <a:ext cx="174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GÊNCIA NACIONAL DE ÁGUA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8000" y="2881080"/>
            <a:ext cx="1211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2482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d1ec"/>
                </a:solidFill>
                <a:latin typeface="Arial"/>
              </a:rPr>
              <a:t>COMISSÃO DE ACOMPANHAMENTO DOS CONTRATOS DE GEST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362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ATO DE GESTÃO ANA AGEV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38880" cy="799920"/>
          </a:xfrm>
          <a:prstGeom prst="rect">
            <a:avLst/>
          </a:prstGeom>
          <a:solidFill>
            <a:srgbClr val="45c98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62280" y="1104840"/>
            <a:ext cx="48006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BUSCA DE PRODUTOS PARA A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8120" y="3886200"/>
            <a:ext cx="723960" cy="1714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23814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DUTOS IMPORTA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33400" y="3352680"/>
            <a:ext cx="5467680" cy="2871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PUBLICAÇÃO SOBRE A SITUAÇÃO DA BAC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RELATÓRIO COM SUBSÍDIOS À REGUL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MANUAL DE INVESTIMEN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AVALIAÇÃO PERIÓDICA DA COBRANÇ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62040" y="1828800"/>
            <a:ext cx="7143840" cy="36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ULTADOS DAS 4 REUNIÕES ANA AGEVAP CEI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18920" y="188640"/>
            <a:ext cx="7162920" cy="819000"/>
          </a:xfrm>
          <a:prstGeom prst="rect">
            <a:avLst/>
          </a:prstGeom>
          <a:solidFill>
            <a:srgbClr val="45c98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1219320"/>
            <a:ext cx="53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VO PROGRAMA DE TRABAL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1758960"/>
            <a:ext cx="9144000" cy="43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847880" y="781200"/>
            <a:ext cx="6458040" cy="1015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LENDÁRIO DE TRABAL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VISÃO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14600" y="2076480"/>
            <a:ext cx="4591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/03 – 1ª Reunião – Texto + concei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/04 – 2ª Reunião – Texto + indica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10/05 – Avaliação AGEVAP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25/05 – 3ª Reunião – Fechamento me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16/06 – 4ª Reunião – Fechamento me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95360" y="4552920"/>
            <a:ext cx="723960" cy="1714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01680" y="4815000"/>
            <a:ext cx="6039000" cy="1448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Arial"/>
              </a:rPr>
              <a:t>19/06 – Conselho Administração AGEV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Arial"/>
              </a:rPr>
              <a:t>20/06 – Discussão ANA / CT IL CEIV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Arial"/>
              </a:rPr>
              <a:t>17/07 – Plenária do CEIV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29080" y="2933640"/>
            <a:ext cx="4457520" cy="368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TÉ 10/05 – APRECIAÇÃO DIRE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2482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d1ec"/>
                </a:solidFill>
                <a:latin typeface="Arial"/>
              </a:rPr>
              <a:t>COMISSÃO DE ACOMPANHAMENTO DOS CONTRATOS DE GEST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4362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RIG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1243080"/>
            <a:ext cx="9144000" cy="56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67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ÊNCIA E COBRANÇ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838760" y="2570040"/>
            <a:ext cx="4038480" cy="2819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43080" y="2495520"/>
            <a:ext cx="4267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ÍCIO ATIVIDADES 1° SET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3 –  5,9 ARREC /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5,4 REPAS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4 –  6,3 ARREC /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,6 REPAS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5 –  5,9 ARREC /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,2 REPAS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6 –  3,4 ARREC /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,5 REPAS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NOVAÇÃO ATÉ 30 JUNHO 2016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38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62280" y="1104840"/>
            <a:ext cx="4800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STRUTURAÇÃO DA ENTIDADE E DOS PROCESSOS DE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676680"/>
            <a:ext cx="723960" cy="1714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9040" y="236232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CADORES DE PROCES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3257640"/>
            <a:ext cx="3524400" cy="2871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PLANO DE BA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SISTEMA DE INFORMAÇÕ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INVESTIMEN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ADMINISTRAÇÃO INTER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43360" y="236232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33800" y="3168720"/>
            <a:ext cx="1486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  0     2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  7,6   8,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     7,6    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  10   1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016760" y="2349360"/>
            <a:ext cx="17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97720" y="3137040"/>
            <a:ext cx="2546280" cy="2871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LANO EM REVIS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STEMA NO SI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RMATIZ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RMATIZAD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38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62280" y="1104840"/>
            <a:ext cx="4800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STRUTURAÇÃO DA ENTIDADE E DOS PROCESSOS DE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676680"/>
            <a:ext cx="723960" cy="1714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9040" y="236232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CADORES DE EFICIÊ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257640"/>
            <a:ext cx="3981600" cy="2871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CADASTRO DE USUÁR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CONTRATAÇÃO DE OBR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APLICAÇÃO RECUR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SUSTENTABILIDADE FINANCEI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43360" y="236232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33800" y="3168720"/>
            <a:ext cx="16765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  0    N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ffffff"/>
              </a:buClr>
              <a:buFont typeface="Arial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   2,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,9   6,6   8,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   10    1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349360"/>
            <a:ext cx="17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92760" y="3137040"/>
            <a:ext cx="2451240" cy="2871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SCONSIDE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RMATIZADA CE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TENDID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25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38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62280" y="1104840"/>
            <a:ext cx="4800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STRUTURAÇÃO DA ENTIDADE E DOS PROCESSOS DE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676680"/>
            <a:ext cx="723960" cy="1714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9040" y="236232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CADORES DE EFETIVID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3619440"/>
            <a:ext cx="3086280" cy="20372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AVALIAÇÃO CEI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VISIBILIDADE NA BA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PARCER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43360" y="236232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71960" y="3606840"/>
            <a:ext cx="1638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,3    7,9   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,3    9,5   7,7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  3,8    3,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16760" y="2349360"/>
            <a:ext cx="17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93080" y="3594240"/>
            <a:ext cx="1650960" cy="2037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U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38880" cy="799920"/>
          </a:xfrm>
          <a:prstGeom prst="rect">
            <a:avLst/>
          </a:prstGeom>
          <a:solidFill>
            <a:srgbClr val="45c98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62280" y="1104840"/>
            <a:ext cx="4800600" cy="1202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° DE JULHO DE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30 DE JUNHO DE 20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1800" y="2914560"/>
            <a:ext cx="30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CG - 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7680" y="3962520"/>
            <a:ext cx="3181320" cy="20372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JOÃO LUIZ - SA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MARLY TERRELL - SP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MILTON CESÁRIO - A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PATRICK - S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WILDE - S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292104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EVAP CEI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35440" y="3602160"/>
            <a:ext cx="4952880" cy="32889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33"/>
                </a:solidFill>
                <a:latin typeface="Arial"/>
              </a:rPr>
              <a:t>ANDREA FRANCOMANO – CA/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33"/>
                </a:solidFill>
                <a:latin typeface="Arial"/>
              </a:rPr>
              <a:t>APARECIDA VARGAS – SEC EXECU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33"/>
                </a:solidFill>
                <a:latin typeface="Arial"/>
              </a:rPr>
              <a:t>HELOISE BRANT – CA/IG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33"/>
                </a:solidFill>
                <a:latin typeface="Arial"/>
              </a:rPr>
              <a:t>HENDRIK MANSUR – COORD.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33"/>
                </a:solidFill>
                <a:latin typeface="Arial"/>
              </a:rPr>
              <a:t>JOÃO JERÔNIMO - DIRE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33"/>
                </a:solidFill>
                <a:latin typeface="Arial"/>
              </a:rPr>
              <a:t>MARILENE RAMOS – CA/SER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33"/>
                </a:solidFill>
                <a:latin typeface="Arial"/>
              </a:rPr>
              <a:t>PATRÍCIA BOSON – CA/FIEM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33"/>
                </a:solidFill>
                <a:latin typeface="Arial"/>
              </a:rPr>
              <a:t>ELIANE BARBOSA - AGE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62000" y="245736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QUIPE DE NEGOCI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250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7120" y="-360"/>
            <a:ext cx="74674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314360"/>
            <a:ext cx="824868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DEFINIÇÃO OBJETIVA DE ATRIBUIÇÕES DA AGEV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52520" y="3733920"/>
            <a:ext cx="645804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RANTIA DE TÉRMINO DE CONTRATOS PELA 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4857840"/>
            <a:ext cx="579132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RROGAÇÃO ATÉ 20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62080" y="6338880"/>
            <a:ext cx="742932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ASSE MENSAL SEM CRONOGR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00280" y="302904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IRADA LIMITAÇÃO SALARIAL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3680" y="2197080"/>
            <a:ext cx="786744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IÇÃO OBJETIVA DAS ATRIBUIÇÕES DA 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73080" y="556884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BRICA ÚNICA PARA O REPAS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18920" y="188640"/>
            <a:ext cx="7257960" cy="819000"/>
          </a:xfrm>
          <a:prstGeom prst="rect">
            <a:avLst/>
          </a:prstGeom>
          <a:solidFill>
            <a:srgbClr val="45c98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62280" y="1104840"/>
            <a:ext cx="4800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BUSCA DA EFICIÊNCIA E DA EFETIVIDADE NA BA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00240" y="1905120"/>
            <a:ext cx="7143840" cy="36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ULTADOS DAS 4 REUNIÕES ANA AGEVAP CEI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111400" y="2376360"/>
            <a:ext cx="5535720" cy="44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38880" cy="799920"/>
          </a:xfrm>
          <a:prstGeom prst="rect">
            <a:avLst/>
          </a:prstGeom>
          <a:solidFill>
            <a:srgbClr val="45c98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62280" y="1104840"/>
            <a:ext cx="4800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BUSCA DA EFICIÊNCIA E DA EFETIVIDADE NA BA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886200"/>
            <a:ext cx="533520" cy="1714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9040" y="236232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ÉRIOS PARA EFICIÊ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66720" y="2933640"/>
            <a:ext cx="4495680" cy="37062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INFORMAÇÕES DISPONÍVE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INFORMAÇÕES ATUALIZAD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TEMPO DE APLICAÇÃO R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R$ COBRANÇA / R$ CONTRAPART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PONTUALIDADE CONTRAT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67360" y="23875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ÉRIOS PARA EFETIVID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67320" y="2959200"/>
            <a:ext cx="3676680" cy="12027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CONSULTAS À PÁG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AVALIAÇÃO PELO COMITÊ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00240" y="1905120"/>
            <a:ext cx="7143840" cy="36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ULTADOS DAS 4 REUNIÕES ANA AGEVAP CEI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2T14:25:47Z</dcterms:created>
  <dc:creator>Bolivar Antunes Matos</dc:creator>
  <dc:description/>
  <dc:language>en-US</dc:language>
  <cp:lastModifiedBy>wilde</cp:lastModifiedBy>
  <dcterms:modified xsi:type="dcterms:W3CDTF">2006-07-15T13:52:20Z</dcterms:modified>
  <cp:revision>822</cp:revision>
  <dc:subject>Apresentação do Dr. Oscar Cordeiro Netto</dc:subject>
  <dc:title>Água: um problema de segurança alimenta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92435130</vt:r8>
  </property>
  <property fmtid="{D5CDD505-2E9C-101B-9397-08002B2CF9AE}" pid="3" name="_AuthorEmail">
    <vt:lpwstr>flavia.barros@ana.gov.br</vt:lpwstr>
  </property>
  <property fmtid="{D5CDD505-2E9C-101B-9397-08002B2CF9AE}" pid="4" name="_AuthorEmailDisplayName">
    <vt:lpwstr>Flavia Gomes de Barros</vt:lpwstr>
  </property>
  <property fmtid="{D5CDD505-2E9C-101B-9397-08002B2CF9AE}" pid="5" name="_EmailSubject">
    <vt:lpwstr>apresentação</vt:lpwstr>
  </property>
  <property fmtid="{D5CDD505-2E9C-101B-9397-08002B2CF9AE}" pid="6" name="_PreviousAdHocReviewCycleID">
    <vt:r8>376229889</vt:r8>
  </property>
  <property fmtid="{D5CDD505-2E9C-101B-9397-08002B2CF9AE}" pid="7" name="_ReviewingToolsShownOnce">
    <vt:lpwstr/>
  </property>
</Properties>
</file>